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EF8-7378-48A1-AFE8-E3E58837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C24-E338-46B9-9CB6-38F26554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D0A-2366-41E2-B5BB-152E110B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4CD-F89D-4CA6-B050-3BE4C445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FB0-89C1-4A71-A8EA-CC8FEEBD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E40-C58F-4ADF-A707-73E57CD3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C44-9B13-4FF8-80F1-85B09107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914-FF4D-4F57-9F35-0AB00010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8C1-CFD5-425D-ACB3-F0D8D23D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0C0-2A7A-42C5-9D88-13159B1C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434-4BD5-4524-90C9-CC28ED12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EAA-3819-4072-BAE6-23F5157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FC115-3599-4BC3-9E55-087958924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e something d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', you get somebody else to do something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1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 going to have my hair c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 having her house redecor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 having a copy of the report s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informal English, we can replace 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' by 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'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 getting a new telephone system install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 be getting the system repair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quickly as they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t the bill s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to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8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e can also us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'have/got something done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' in situations wher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omething bad has happened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o people or their possessions. This is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not something they wanted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to happe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d all his money stol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his hotel bed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d our car damag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a falling t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t my nose b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en playing rugb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us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ave someone do someth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alk about giving instructions or or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5236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d my assistant ty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re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 have my lawyer look in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having her brother repair the compu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us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et someone to do someth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alk abou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nvinc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meone to do some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5236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t my dad 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d ne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 get their teacher to g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tudy holiday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t her son to was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s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1:18:19Z</dcterms:created>
  <dc:creator>Paul Filippetto</dc:creator>
  <dc:description/>
  <dc:language>en-US</dc:language>
  <cp:lastModifiedBy>Paul Filippetto</cp:lastModifiedBy>
  <dcterms:modified xsi:type="dcterms:W3CDTF">2013-03-18T18:24:28Z</dcterms:modified>
  <cp:revision>9</cp:revision>
  <dc:subject/>
  <dc:title>If you 'have something done', you get somebody else to do something for you.</dc:title>
</cp:coreProperties>
</file>